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13340"/>
        <c:axId val="40929065"/>
      </c:barChart>
      <c:catAx>
        <c:axId val="58713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29065"/>
        <c:crosses val="autoZero"/>
        <c:auto val="1"/>
        <c:lblAlgn val="ctr"/>
        <c:lblOffset val="100"/>
        <c:noMultiLvlLbl val="0"/>
      </c:catAx>
      <c:valAx>
        <c:axId val="409290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13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FC8-BB3F-42D2-AF57-2DA7D93B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F6E-840D-4390-A7C2-342D8844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BCB-ACD4-4DA8-B63B-2409EAFC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EF3-1E9D-4ECA-8FA3-410EF142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A03-3215-4A3E-A33D-E2966EA5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4EA-476C-4AC7-B57A-F39216A7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C3E4-0733-4CC3-BFEE-726EEA27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927-FC1D-4042-BB2D-2964D352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96E-E380-415C-8355-ABE2E057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657-43F1-495C-A15A-03BE05FB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905-F348-47B8-ACFB-05A0C88E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F47-2483-4DA8-A9AC-93A2C01F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9DEF9-D92B-4C3F-B843-AE548D888C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