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59262"/>
        <c:axId val="59206134"/>
      </c:barChart>
      <c:catAx>
        <c:axId val="43059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06134"/>
        <c:crosses val="autoZero"/>
        <c:auto val="1"/>
        <c:lblAlgn val="ctr"/>
        <c:lblOffset val="100"/>
        <c:noMultiLvlLbl val="0"/>
      </c:catAx>
      <c:valAx>
        <c:axId val="59206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59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103-CCDD-4570-9F15-EB0591F6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3F2-C7E5-4E61-B1EE-27E94C49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5EE-D43E-42E0-8ADF-4DD8EBD3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E7E-6672-4D2A-976B-9AA79097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990-EBFC-447C-86EA-26C6CB40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F5A-A047-45C7-BBB3-207EA91E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311-5B6A-4701-B553-A747DCA7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22D-9375-49EB-81AD-40CCA418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921-91B2-4C0F-A8CE-511E6469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DC4-C79D-41B5-A192-821B81BF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A15-F24C-428B-A87D-3E2C4943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97F-DC76-419B-897C-5B34BDAD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B742F-F7F2-4994-B2C2-1B43F8CE5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