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2270"/>
        <c:axId val="21961624"/>
      </c:barChart>
      <c:catAx>
        <c:axId val="7522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61624"/>
        <c:crosses val="autoZero"/>
        <c:auto val="1"/>
        <c:lblAlgn val="ctr"/>
        <c:lblOffset val="100"/>
        <c:noMultiLvlLbl val="0"/>
      </c:catAx>
      <c:valAx>
        <c:axId val="21961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2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418-4DC6-441E-80F3-5916ED37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FE7-E320-49CA-BEE9-EE61A397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333-7E98-4A97-A1B8-7392B4BB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23C-B300-4324-A0F9-2FDA51D3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570-B6E7-447F-9BFF-4DC06BC5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8EF-04D5-422E-A618-7EFE46E9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B38-8B8F-4EAE-8DC1-C4F62552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CD4-1A18-43BF-A62E-F1F77EC5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F59-98D5-4ECD-83A5-BECB3FBC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6F3-0D20-42DD-B51A-93398659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949-E7D3-4FB6-86C3-6EAA38F3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973-D713-44DA-BC04-7E31C2AA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C86DB-A721-4634-BF70-F8931D2CF2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