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07466"/>
        <c:axId val="80285243"/>
      </c:barChart>
      <c:catAx>
        <c:axId val="81807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85243"/>
        <c:crosses val="autoZero"/>
        <c:auto val="1"/>
        <c:lblAlgn val="ctr"/>
        <c:lblOffset val="100"/>
        <c:noMultiLvlLbl val="0"/>
      </c:catAx>
      <c:valAx>
        <c:axId val="80285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7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227-59EE-40EB-B3A3-C3B91E50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722-6C4F-456D-A02B-6700BAB3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EBF-CC74-4B1B-9C4A-932D15AE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374-4F6E-4651-8879-CE678224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338-2EF5-4CCF-BC29-DDABD05F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11C-9490-437B-A72B-5834AC64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E4A-7282-4DD2-9BE5-CA5CFDE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397-551C-468C-8DA3-F382D27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990-65BF-4B6D-B128-866CC087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B4D-B255-459D-B4B3-D288878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5C3-86C5-4B45-B36F-46CDBFF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6A7-9F1D-4BCE-9AAA-AB063E2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8FD36-53EE-41FC-9F58-EC1019773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