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10803"/>
        <c:axId val="61834928"/>
      </c:barChart>
      <c:catAx>
        <c:axId val="51610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4928"/>
        <c:crosses val="autoZero"/>
        <c:auto val="1"/>
        <c:lblAlgn val="ctr"/>
        <c:lblOffset val="100"/>
        <c:noMultiLvlLbl val="0"/>
      </c:catAx>
      <c:valAx>
        <c:axId val="61834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10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C15-FD56-4C67-A549-F003F785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3A0-DD44-47DE-B7FE-62149418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B72-D4EA-4EA8-A45A-38E9CD4A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B57-0E5D-4527-994B-CAD1E5CF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7AD-8AD2-4FBC-89C1-BEFAD06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6E4-6AC7-48B4-BC5E-035CFEA6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07C-5D74-4ADB-B32E-3019A6C6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B2B-C5C1-4A7F-844D-78773D6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7A5-0215-4D82-8A53-3B6F711E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E93-B336-4B2D-BA31-B3F8497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500-1732-42B8-A972-8C70A82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BF4-04A6-456A-9998-F3049F2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14A4A-906D-4ED9-948C-845E9F3B86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