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24795"/>
        <c:axId val="2471346"/>
      </c:barChart>
      <c:catAx>
        <c:axId val="98424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1346"/>
        <c:crosses val="autoZero"/>
        <c:auto val="1"/>
        <c:lblAlgn val="ctr"/>
        <c:lblOffset val="100"/>
        <c:noMultiLvlLbl val="0"/>
      </c:catAx>
      <c:valAx>
        <c:axId val="2471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24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278-6E4B-4A10-AF73-693352A9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261-499E-4870-923B-C52E3912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8F9-F488-4BF9-AB1E-5A56F3ED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13E-CB2A-45C0-9263-AD304045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8F5-4DA2-4022-A6C9-8E078E2B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D61-553E-47E4-8993-458267AC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2BC-CF8B-473D-B9FC-085397D9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B94-5237-48A0-9A8C-864B6CB3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428-3C45-4762-993C-BC4DC9C4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37C-3869-4B69-A2F1-A0619C6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469-7A42-4FE7-990B-A6EA5E2D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772-D75E-4EF8-BA55-4D271F9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371C9-D240-4223-9B75-F9B2F55506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