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3304"/>
        <c:axId val="13140700"/>
      </c:barChart>
      <c:catAx>
        <c:axId val="5263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40700"/>
        <c:crosses val="autoZero"/>
        <c:auto val="1"/>
        <c:lblAlgn val="ctr"/>
        <c:lblOffset val="100"/>
        <c:noMultiLvlLbl val="0"/>
      </c:catAx>
      <c:valAx>
        <c:axId val="13140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62A-712A-43FB-80C4-52E71A70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DF8-BC50-4BF7-A578-04887C28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4FD-4CB4-4A3C-BF7A-C5169422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FEA-D4D2-4CFF-8F12-EEC11D91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E4A-E0DB-4D1B-B958-19DE245A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C1F-38A1-4F2B-9F4B-1CB31774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2A5-F4B5-4072-9BAB-0D8FDFAB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288-E3A2-490F-AF20-DFA8CBC4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B33-C818-4626-8320-CD532893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089-11F2-4AE1-95AD-6B85224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EFF-21EE-49B7-A44B-5B9F920D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33B-AEA5-4053-AB20-2A0AD799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18805-5F78-44AB-B7FB-0F369FC2D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