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909033"/>
        <c:axId val="41389177"/>
      </c:barChart>
      <c:catAx>
        <c:axId val="669090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389177"/>
        <c:crosses val="autoZero"/>
        <c:auto val="1"/>
        <c:lblAlgn val="ctr"/>
        <c:lblOffset val="100"/>
        <c:noMultiLvlLbl val="0"/>
      </c:catAx>
      <c:valAx>
        <c:axId val="413891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090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BDC1-3D9B-4195-98E8-246C0B4D8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51A4-0DCD-43AD-A674-058684D5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465D-E243-4D75-A027-5B17A9563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0250-62AA-45B0-A234-52C51B190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4D4C-B7FB-4985-BC79-FEFA807A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0765-097E-4029-A089-499B5224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71C9-6487-47F7-B145-8B8EF31B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882C-14E2-4DC6-9C31-003FD3DC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3B11-50CD-4B2D-9A21-5270D963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B0D7-134D-4711-BA25-F6C82D0B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F781-1878-4810-8033-7B969FFD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0F2F-54BE-4122-91DF-47A82487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29E77-5EEE-4935-B7C0-4E116790EA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