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202499"/>
        <c:axId val="8440357"/>
      </c:barChart>
      <c:catAx>
        <c:axId val="33202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0357"/>
        <c:crosses val="autoZero"/>
        <c:auto val="1"/>
        <c:lblAlgn val="ctr"/>
        <c:lblOffset val="100"/>
        <c:noMultiLvlLbl val="0"/>
      </c:catAx>
      <c:valAx>
        <c:axId val="8440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02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18A-48BA-49A2-ACD7-4801E2EF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E0F-2C22-4C5F-839B-7EAE2033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484-5F71-4727-AB3D-629FB2CD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7CF-821C-4AC7-9B16-856DEF03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B62-AC89-4ABF-9A10-DC821EF0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717-4D41-4E0F-B341-88B16245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BBC-050A-4E3C-910A-C4835841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0C5A-01C2-47A6-9CB4-C32FF021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F2DC-9DBC-42F7-8F75-4F0082F5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FB7-AE93-497B-8FBC-B36B1C87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BBC-3A06-443C-8022-744D4AE5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674-9C2B-474E-86BF-ABD5B89A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1E72D-D2C9-4CFE-8D3F-0E109A3F7B1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