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2351"/>
        <c:axId val="60667010"/>
      </c:barChart>
      <c:catAx>
        <c:axId val="4982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67010"/>
        <c:crosses val="autoZero"/>
        <c:auto val="1"/>
        <c:lblAlgn val="ctr"/>
        <c:lblOffset val="100"/>
        <c:noMultiLvlLbl val="0"/>
      </c:catAx>
      <c:valAx>
        <c:axId val="60667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840-D849-48CB-8A62-813A3CB9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D2F-D3A6-46D2-9219-7CA9F586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901-FE95-4213-BCE8-2D83CB66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DB5-4355-4BCF-9838-250AE8E8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7D3-B498-40B2-A7B8-59461AE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B7A-831C-4586-864C-659394D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BD2-9522-4732-A98B-5660EC1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5B8-A923-4088-92D9-1C4320CB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DC8-2452-4F5B-9FC4-AC31CEB4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115-E529-49EA-91D0-B5640DE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652-C9DA-4607-87F7-CB58395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F78-D916-43A7-BC7A-EA67DDD8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5AB0-5D13-4254-ACDD-BEC1F09C0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