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77797"/>
        <c:axId val="98626096"/>
      </c:barChart>
      <c:catAx>
        <c:axId val="41377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26096"/>
        <c:crosses val="autoZero"/>
        <c:auto val="1"/>
        <c:lblAlgn val="ctr"/>
        <c:lblOffset val="100"/>
        <c:noMultiLvlLbl val="0"/>
      </c:catAx>
      <c:valAx>
        <c:axId val="98626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7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1CD-B8D0-442F-93A5-E7FED01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215-129D-404E-BEAF-AA0D6FB7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9FA-9A43-41BD-85E1-FE7AB766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A5C-ABDF-40A0-92C9-3A5EB87A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505-A931-4AF9-837A-C9F2B41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7B92-E0EA-46A2-A892-BEC4256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A79-B09D-41EA-AAD4-EF32A61B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E75-7213-4E9F-952A-B7306328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C9C-DBBA-41C8-B9FE-C0167D2A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037-6AB1-4486-9E0F-715A9F67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219-A28E-4F9B-AEF3-C4FFBCA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638-102F-4D62-84C5-6C57BDB1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1A47C-2ADD-4401-BF07-885AD9BFB0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