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408762"/>
        <c:axId val="83199073"/>
      </c:barChart>
      <c:catAx>
        <c:axId val="240876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199073"/>
        <c:crosses val="autoZero"/>
        <c:auto val="1"/>
        <c:lblAlgn val="ctr"/>
        <c:lblOffset val="100"/>
        <c:noMultiLvlLbl val="0"/>
      </c:catAx>
      <c:valAx>
        <c:axId val="8319907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0876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5C0F5-8AC3-4929-ADE7-72D7A4229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4800A-20A6-42EB-A6EF-C3B8B4DBC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787D7-04A6-4789-92A7-EBC305FA4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90159-C221-4D4F-8F87-4AB48DC82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D9CA4-0960-47BD-8A39-9F5AA2C28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B3A5C-B98D-48A9-A2D7-86730FC34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66BB6-5124-4E6D-ABF1-0F816B0B8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74128-94E5-49ED-8CB5-65081430A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4C791-E710-4D88-8826-CF7F41B37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C2E20-84A9-416B-B4E5-89B4A82E7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2B1E3-EAB5-4E9C-9B55-F6392061A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EDE2C-5DC8-4B82-97BD-1BE389449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B089C9-F56D-42FC-91FA-1E00CC39BB1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