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997351"/>
        <c:axId val="29155161"/>
      </c:barChart>
      <c:catAx>
        <c:axId val="899973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155161"/>
        <c:crosses val="autoZero"/>
        <c:auto val="1"/>
        <c:lblAlgn val="ctr"/>
        <c:lblOffset val="100"/>
        <c:noMultiLvlLbl val="0"/>
      </c:catAx>
      <c:valAx>
        <c:axId val="291551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9973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1249-55E3-4BED-9379-476F3390F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288C-69C2-41F5-A011-CDCFD523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ABE3-6162-49D4-94DE-87E5070B1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0BAB-F277-4C26-9113-24311A593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31B6-5B8F-4525-93F6-6EB2F771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6E16-DF02-4F9A-9B17-936B9030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A4D7-A21D-46F7-B474-2DD1F09A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6CB8-2EED-4A3F-931E-8F539EB4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8321-98AD-48A9-A738-5D5C79EE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7EB4-693C-4324-9251-E475BFC3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6698-AA43-4D01-ACED-9177B253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B4FC-AD03-42A0-9D61-4C54B514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0D17A5-C329-4261-B4D8-A068193DD1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