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88062"/>
        <c:axId val="25989580"/>
      </c:barChart>
      <c:catAx>
        <c:axId val="51288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89580"/>
        <c:crosses val="autoZero"/>
        <c:auto val="1"/>
        <c:lblAlgn val="ctr"/>
        <c:lblOffset val="100"/>
        <c:noMultiLvlLbl val="0"/>
      </c:catAx>
      <c:valAx>
        <c:axId val="25989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88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365-677A-4058-ADA8-0CF48121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AEB-9143-4725-93C5-E8D367AA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7C4-0158-442B-902B-C8195DD5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FA3-E284-4579-95B7-598AAC88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B5B-3F0F-43B9-A939-FD51C77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EF4-19D8-4720-866C-45F8A9E8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2FE-4A73-4272-8377-A1BB0F8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47B-C4C3-4665-8681-114DB2E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0D5-FB8D-4FE0-AF37-E6B7C47A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254-04D0-4F4D-A27A-4F5C4394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D0F-50A9-4639-9E02-3D125D3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390-87DF-427A-8429-F44C60F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23921-DFD7-46B2-8181-9C06069914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