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923035"/>
        <c:axId val="38682220"/>
      </c:barChart>
      <c:catAx>
        <c:axId val="289230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682220"/>
        <c:crosses val="autoZero"/>
        <c:auto val="1"/>
        <c:lblAlgn val="ctr"/>
        <c:lblOffset val="100"/>
        <c:noMultiLvlLbl val="0"/>
      </c:catAx>
      <c:valAx>
        <c:axId val="386822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9230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8A4F-5A16-43FE-AC8B-5748A6605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72EE-0BDA-4C9A-8A27-1FA3E08C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4D22-4C6B-4060-9C5B-456C03F20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A82B-73FE-43B7-82B5-181FD68AF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DBC3-299D-49E6-8BDC-03FF01C0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D1B3-1D48-4CA0-9D29-D59A7739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58C5-44B4-4BF9-AE87-DEB8962C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8F5A-DF57-4B0F-8C02-B25925E1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6A4A-7444-45AA-AEEC-81A4072B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E626-1121-447C-A9A7-336824BA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4A64-D535-49F1-8D2A-29E5AC0D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8550-2D96-4B17-B90D-CBDA5F9A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D5833-3BC8-4BB5-8C97-C10428A8F2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