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89273"/>
        <c:axId val="92576176"/>
      </c:barChart>
      <c:catAx>
        <c:axId val="22689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6176"/>
        <c:crosses val="autoZero"/>
        <c:auto val="1"/>
        <c:lblAlgn val="ctr"/>
        <c:lblOffset val="100"/>
        <c:noMultiLvlLbl val="0"/>
      </c:catAx>
      <c:valAx>
        <c:axId val="92576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89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330B-7AB2-4087-9615-91BED208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BBF-E637-447A-A2EA-6ED9834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6F5-C699-426E-BC1C-B888C8DA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B6C-3CD4-4747-A5A2-051B0C70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833-C6A0-4B74-AFBC-2601EF8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463-41D6-48F3-98A9-08EF3C51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B50-2382-41B2-AEDC-B14C7E9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46F-05E1-4AD3-9221-6079A4F0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4B5-577C-4256-A2C7-122B4D3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99D-164D-4BCD-8475-CC5D3BE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FA5-86DE-47AF-BBB5-0E4E391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B92-2D4B-4D8A-B37D-5B9473B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95284-B335-4C33-BFD2-5E13A9FC6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