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87046"/>
        <c:axId val="1460684"/>
      </c:barChart>
      <c:catAx>
        <c:axId val="753870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0684"/>
        <c:crosses val="autoZero"/>
        <c:auto val="1"/>
        <c:lblAlgn val="ctr"/>
        <c:lblOffset val="100"/>
        <c:noMultiLvlLbl val="0"/>
      </c:catAx>
      <c:valAx>
        <c:axId val="14606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870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361-1959-4586-BC6F-587C4F68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F3C-BF74-4745-BA18-96B85431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DE5D-BB37-40B9-AC8A-D1F2EEFF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99A9-EBD2-44D7-B6ED-4B9C6DB3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92B-7591-4A60-927D-651D12BC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1366-47C6-4D87-8AE5-00FEC68D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6270-4E91-4D72-9031-4DFA04C6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43A-D861-44A8-809F-7AF5799D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9499-5BF4-458E-AA7B-64A0D861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DDDE-1DBF-42B5-9C7C-88D36EAC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2FF-83A6-4787-8262-AE07CA9B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B088-1CB7-46DF-9558-992E46DD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CE148-A295-4F16-958D-A07600D9A4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