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021B79-1277-4A4B-BBFC-3FC4864D96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E308FD-7AD5-4582-816F-32D678CE60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00D3FE-DD72-4EC6-857B-FEF271FB31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D211C2-AEDC-4814-B232-E7B1814916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49470B6-0A72-4159-9020-6C3DE0C019B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C2AB50-EAE8-4C3E-9545-8217DDFA65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85D69F-85FC-4A27-B4FF-38371BFAF9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B938CD-69D5-4B27-996E-71B6B0FCD7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B2090B-8D0C-44FC-BB3B-D4A942911C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D85522-2F6F-4EDB-9387-2A477DC37D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E6045C-5140-4AEA-A690-D3BDAC1F34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E6F8E2-30A9-451C-A5A5-167CA61E00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656471-1A53-4128-A4F1-5B62C520E1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6C720D-B343-4228-845C-07160504B2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73C01EF-2760-4422-91C8-BD07A268FE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30630FF-653E-452A-A801-1D05B5A05FF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0441F2D-A64B-4927-A342-102F6ECB97C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A274B2-8B6D-451C-BBEB-E435756742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52061F-321A-4F20-A699-D655BFE7B7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533B9C-C6C2-4589-961D-0EE9056C35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9C5091-BA04-4BE2-A994-A2AB4C9596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A665E1-634D-4477-A615-160F5E5632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5D0D67-6C92-4D76-BA32-6B0EB21698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D3A5B2-1D65-4BEB-B9AD-DE67326828F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FF53DE-C922-46FC-884C-C5B4B6A7AC3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C9A00F-10EB-4420-A58C-44412381226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7900F87-71CD-4039-B2FC-26E17A70D2B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91BB38B-528B-47EF-BB0F-A410C26FA2F0}"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E186B0-761D-4B8F-8E78-3B656751CAEC}"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254FAB-BBFD-4C4D-AA3A-29D408158319}"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ADFA75-C073-4D51-9B40-C0EFA02EC441}"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02A26B-60BF-4EB3-BA2B-5E9E2CAFDEB3}"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E944B2-DDBF-4075-A02D-E4E77D0C212E}"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53887A-8520-4399-8DAA-2F779DA21215}"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B69B1D-F9AE-48B4-A3F1-D37DBF5DAA2F}"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2212CB-CFF0-493B-9AC9-91E66BB9A054}"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7E000B-86CB-4810-8988-F534D881EA1C}"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615101-880A-4A78-B468-1B4C6AABCFAF}"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D2BF73-B6B8-470F-805B-96CF8D4EA6C6}"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D1E25B-8EBA-4B4B-A200-2A35E960E7B6}"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0620AB-9318-4F0D-B91B-F42AE241383C}"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D95124-B4E7-4905-9163-4FD0C8E7E9A2}"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16F2EB-C446-4350-9350-E9CE1BE5593A}"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148AD2-5DE1-4ED9-B0B0-A79630509FF8}"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A10B00-DD46-4DF3-8B0A-CF7BD70656F3}"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2EB0C5-5A8B-47FB-82BF-C17E0297A05E}"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3CA5F8-E2D4-43DB-B74F-15CD83FF0AE2}"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B9E735-DF33-43DB-B989-CC0F1316E054}"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BBAA33-B0C2-472E-872B-339DB86817B0}"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805ED3-FC68-441C-BD93-719F02AE6E93}"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A5DB21-3DC6-4087-98C8-D60DB1ADFCB2}"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192331-7A06-415F-B65D-F3A2D2AFF200}"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81444A-11C4-4574-B4E3-74544E5A0379}"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62AE600-E902-43B5-BBC9-DE67196B18DA}"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0D6698-5AEA-4E31-A56C-6C62D43DAA04}"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D2029B-15D9-4256-A96C-B58580C46447}"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FE83EE-5674-4268-973D-7D1FD4FA18A3}"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BF3DD5-D8D3-4F0E-9920-3F1C7ABE2FB8}"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C1F79F-A107-4433-AD60-A2156909E765}"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913D5E-289A-468E-96FA-6D7358EA3AB8}"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93F7FB-C513-4786-9478-51AC8DBC8D1A}"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1EC9D8-D7D6-417A-8379-7A0532AEBAB2}"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C7DB31-642D-49EA-876B-D3942892EC4B}"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A79154-65EB-4657-BEB9-ED1BABA17726}"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9F04F7-0A0D-4670-93AA-2AE120E5DB2D}"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D2690C-644D-4DB2-BE5D-D5F87B8D0D17}"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72DCB9-D4F2-4953-B433-3098E8398729}"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935DA8-E1B0-429D-B172-23B4E1F57EE4}"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F6E700-CF30-45E4-B196-EABAD8330BBB}"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AFCC69-0A63-4BA2-960F-0B738DF53B5D}"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C3FE3A-AA1F-4458-A36C-C4732F60D6A8}"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C1F9E3-14F8-406D-97B9-0DD1FF124B1C}"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9FE16F-9DDE-437C-BFC1-2D11B56CFE27}"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72342A-CA54-4BF9-9126-F5D7AEC84CE8}"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35CBC27-7C21-4278-975C-AB19609052FF}"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1312D1-74EC-4F54-953A-7ACADEEE12BB}"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CE1B09-B923-46E6-90FD-018C0812B166}"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78A3397-A24F-4D2E-A437-034D14D5DA37}"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81B234-39CF-4729-B6F9-3868B11FEE0C}"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49DB75-82E6-4297-96B5-E6B1B0B68196}"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509E87-736A-43EB-A404-8EE78F9F9494}"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A762DB-F2B5-4F53-8DC5-B9E302639AC2}"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107E20-7E80-4877-A884-CF686C6174D2}"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1F31E2-EB18-4894-9E86-9559EF7F96A6}"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7E1279-29AF-4181-B424-567BE0EC4881}"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CA0F592-10B3-4E0B-890D-22824FE04280}"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446812-6378-456A-B738-56C302BC2924}"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BF5A80-CF51-496E-A866-657B2AD98FA8}"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D9CF67-7A96-453E-927A-72C53B15A0AC}"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6A32BC-8880-4053-A19F-25C91CAA71C7}"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5AE8C0-1112-4F19-8D45-9340353E798D}"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F094A8B-B154-4568-8E28-FDC738601425}"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A4EA88-43A0-4289-8387-68D3DFC9245E}"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F8A64C-7317-4DCA-8A7D-0D269817946D}"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9CE9CE-8F36-4DA8-9067-B559F3A35E7D}"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225BC7-23BB-44C1-8E0B-E60AD91C6D60}"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789B8B7-8DE8-4AC2-8B4F-1A4096D30671}"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7B5F8A-9233-49E5-B194-3BBFCAF29CA6}"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297C90-0502-4DB3-B53F-7CF4EF3629F3}"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143BB5-4D35-4D43-9FEC-D917A28F5CFE}"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1F0599-261E-4C9C-982D-7E0FB7A88C4B}"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2392D9-62A9-40F1-B6C8-BB2EE553E1FB}"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B730F9-2AC8-4932-97F5-D786C4E9F404}"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7227DD8-5ADC-4AA4-99CF-D19CF6DAD81F}"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78EEB8-1546-4D2A-B1ED-307D131EB1FD}"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11607A-2011-4D9D-A00E-EEE81F72A49B}"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61F8E9-3271-45C6-8823-174A0C1DA718}"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E2C409C-C960-4ECA-986B-1E90DFBEA4FE}"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C892DF-3A23-49FC-A166-B62B0FD42063}"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82608A9-47B1-4CF0-B51D-B2536BC8EF7E}"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DA9ACF-6434-4724-9C38-07A2D99183CA}"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C8A684-B416-46ED-B511-10012EB21842}"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B5A1FB-5650-48BF-89F8-6B9F9EFCC1AB}"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E1978E-E8B8-49CC-93CC-0419B39A529A}"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05A57D-0603-4CCF-B361-E48077378FCD}"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46D304-FB70-4D2D-ADC4-84EF9BAAF680}"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3D649D-07B9-4F7C-AF46-F3B53758A318}"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CF806A-B64B-44C1-A4E0-EB25AB67062A}"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98DE3D-C08D-4F63-A250-40FB2E5AD7EE}"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73AA03-086A-4B79-A212-98A6A793BF30}"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336CBE-E868-436C-965E-689D3B4163CB}"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8FF70A-3035-4226-B277-ABB6E6344203}"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88A885-71FE-4308-BAAD-42F55C57155F}"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C75624-5023-4A71-9FE9-C134C1751C77}"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4C33B0-13E3-407C-90C8-E737032EC001}"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47C864B-7C11-4DE9-847B-DA1E24C7A5D5}"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3BE741-3655-44CB-9030-5B53C383405B}"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47ABF1-9E6D-41D4-95CB-4DC4D0177910}"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E6D3D8-34CA-4B14-91BE-D6015630C01C}"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E1683D-F448-4134-96B2-42A430384FD7}"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2F7149-DFEA-4479-BADD-1A0712976E18}"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477550-3038-48AC-BA45-9F4EA9CA4EF7}"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129286-CF78-464B-B6B6-DD5CD049940C}"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7FAA66-D715-4869-833A-84F64547C152}"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BAF3AD-074D-413D-BAA8-C9FE3ABF2A02}"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48B4C7-124A-4E24-A88E-E74B74DB857E}"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516DAD-FA41-4C88-9F89-3E67EE3CEA6B}"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855A90-056B-4675-934D-9716A01B745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4BE56D-7328-410B-92B4-B37B1F3BB01C}"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A204A0-EB70-47EE-A846-682772D458A2}"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6E4032-0E63-4C0A-9FE7-9851A29A1369}"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DE8E30-5764-4A36-8D01-4947A21C37E6}"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2787B0-03AD-4074-A132-2BC85FE908F6}"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35AAF3-BB4F-4468-AC62-0DEA571E27F8}"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326F82-B435-49BB-AD99-FED28BAD52ED}"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D0FADF-E0CB-4A75-B8D5-0D5A2B3CFA9C}"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84BFDF-46A0-4E96-BBFE-60B06B5FCF8C}"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7C7C87-C665-4E00-B3BF-ACBDFD7F1AE4}"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593621-095D-4CDB-99CA-A34397B60DC4}"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6B8BC6-BF0E-44DD-96DB-B6723D5E5677}"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C703F2-C9A3-4BAF-AA2E-C781957030A5}"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0BD051-BF21-4985-8CFA-12BD86905C76}"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2F0F2B-3261-4EE0-996B-2E05B5B2777F}"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6D8D4DF-7C25-4115-88C2-963CE6B8F459}"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25D6E6-BE5D-444A-927B-5E99E3A1708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FD568C-41C6-4D37-B835-D6587102DA7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A95E6C-9BCB-44B0-9509-A08FB5343C4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EBC25F-D9AB-4B32-8D86-61B78A050C5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670668-B926-4F10-8557-2E5D8B25DAB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4239D9-C829-4FB0-AF46-9636EAD744D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DF781B0-38E0-4DC1-824F-205F0694FC8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A0170E-F473-4307-98AC-692C855FBBD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667BC3-38AF-4CE7-88EB-4071D146868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B606B0-22D8-449F-AD8E-AB5A0AF38D5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4587C7-B1D7-4290-994D-8129DC0B46C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4B02C9-4B85-446E-B2F7-041D898A6DF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0698B4-F814-4331-8BD5-A56A43900C3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9E8AE3-2939-41F2-ADE8-DB456A2C449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19E93D-93B4-4CE1-9810-BDA6EB30802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D7DF25-E1F2-407E-943E-2B24C196E76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0E391E-69D5-4257-AE30-FB1A15EE302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F4EA97-9347-4E71-A975-424307E7F218}"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3DFE2F-6C25-4120-8DAB-838139CEF32F}"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CACF28-7F2C-4AED-B9E6-A7175874658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F3E980-6898-41A0-8FC5-BB5DEB0CF25C}"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6B3FF0-B185-4B1A-ADC0-82A5D19553B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C83888-8136-4CAF-B7D2-35F66FE8C325}"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97AF34-DF15-431C-8CD6-52307F27E044}"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43D0BA-C01C-48E2-A789-B20CB9D04A3B}"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44190D-B33F-425D-A86B-42D97BA70C3E}"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659B19-C73D-45B8-BCDC-DF8F61A72FE6}"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30B54C-DBD6-4231-9E55-6B6496340466}"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8AC737-FF4D-4A94-AD1B-D14FDBA9B877}"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B46C5B-442A-470B-B555-8F6CF6099458}"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20E719-13EA-4195-ABA4-21451BD12D01}"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26DF17-A552-4250-9504-EE486667FC7A}"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F78CA0-F2BE-450B-BAC4-453D9B3B1630}"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2B616A-0D54-47F8-A94C-ED87944F5CD9}"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E4F48B-67E8-453C-B9C8-F0E7F90D63B7}"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A61E76-4181-4156-82AA-71CA5AE2F4BC}"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00C599-3687-42FF-A604-271C5159AE3A}"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FDC741-9775-45C4-A963-2CAB1C04BDB6}"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34B14C-E90F-4DFB-B2B9-0EED766A0A1E}"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FFF3C6-010B-4CC4-A9F8-A66578C7CED2}"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99EBD6-908F-4DAC-93E6-F684DFB3688E}"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A34583-84CF-4843-85C1-3146F70B22CD}"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6BC3C3-5589-48D4-9BA8-98E788209CF0}"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288FFB-496B-4E9D-BF46-2E8AB9AFC347}"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D611A6-BCEA-4DFE-9417-09CE0489071B}"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E72FB1-B0F7-465F-A018-8F96FE728EBA}"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4A8902-E11F-40F1-8E02-88990ED5B48E}"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29AF4BE-07F3-4F79-9065-1BF0D3FE1DE4}"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3158B0-48B6-4597-A2F1-27C17DB52B0F}"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AED36B-8DB5-4DA5-AFEA-F55A0C1A942D}"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B1EA4B-6A86-42A5-BA0A-6DAD6C32ABE6}"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7353AC-F170-4C4A-9B22-B0DDB83CAF06}"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B201A1-D4DB-4420-84A0-D9779713154D}"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74A0A7-A1E8-4BF0-8EB1-FB5C147A4401}"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6B882D-ABA7-4E68-8084-3A1D70D1362E}"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AF9837-0825-49E1-BF25-1BF12C997A5D}"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52B3CB8-495F-4A98-8D27-257BC39A8B9D}"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C57EE1-F1A9-4286-A31E-F1065B11578C}"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03B830-958E-4783-95DC-49A4DEF01A81}"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C0C6F0-FC01-4608-A65F-DA02FBCAE3F3}"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6EE585-406A-48F4-8FE4-C569C7B83343}"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E6BF06-4FB0-46A4-A026-25E74FA1103A}"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015DE5-AF3D-4662-9C7D-0934A834E9D8}"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631630-A3F7-4E5F-80C0-799918B56D47}"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A396EF-B6FF-43CB-8B6C-AF7179B373FF}"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95B4F3-AA15-48ED-A11C-F77B02C78168}"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5C2FB8-5B56-43B6-9558-A0CEED310581}"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EB0598-6183-4737-9746-76D7F806903D}"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A08B1E-A856-468F-ABCA-4BC12E1C782E}"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00DE19-1FFB-49CE-A9C3-F44541A4A2C7}"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6AE49A-9A67-4143-A940-E0037A4254F8}"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E9FD68D-D4B1-48AD-B551-688583E393E6}"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31586A-83CB-4C47-A362-5538368F87E2}"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28E6E9-3A2D-4BE1-9528-9C8D625A4D86}"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2374BC-217D-414B-8A07-2BFAC470E29D}"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1BA0C1-36D9-4ECF-BFC4-4D134B226A9A}"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D66512-26F1-403E-8DA3-049290255744}"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277AF1-FB10-4E66-A662-3782AC90AEA7}"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8378CE-420B-451F-BD2A-6A15435797A5}"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48D62E-8AE0-4D63-B2AE-BCAF9F6551FC}"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A26B0D-4944-4ECB-ACEF-0695AD40E819}"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3E43FC-CF18-425F-99DF-671131053EDB}"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F6AB35-4313-4035-B97A-C35D6FE3CE0D}"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D1F02E-750C-4181-BBA0-1E595ED30F38}"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AA12F7-D350-4528-9665-36C49B0DE9E5}"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