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49BFE-17E7-4BE5-B473-2B6D26F439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942EE-0D5E-4AB5-96CA-55CD565EE1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A0E0A-1F3B-4870-BB3F-C4EAC8FB65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47640-049B-4426-94AD-442BC52A2F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16B454-C9BE-4614-B0CB-B89BB7FB7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55ECD3-F9A9-4746-8B2F-106620A9D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FC23C4-7FB5-4749-A33F-620DE07C5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4C4178-83CB-4A88-BD3C-6386BC649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BCC62D-747D-41AD-B868-A45FED818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D2EA25-859E-45BA-AB0F-6310BB7F2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892F30-DD21-42B9-BC3C-4317A9C5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9BC74-42C6-47AC-A85A-4CC05ADE23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1C2E5E-A0E9-4E63-B4C1-C5FFAEAE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A44229-A66C-4ED1-BEC1-E1141D04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BC2411-9444-4B74-9958-9E5350A5C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912C6F-9CDF-472A-A524-75E20EF11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00A3C4-CDF9-4E78-937E-F08A9734B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46DBD-CDE4-4E55-BD36-5F88C1DC90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8B9F5-3518-44F3-B8E2-BB79CE2E53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583D6-7CDF-4833-9A3C-511F6D5B98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AC8B8-AAFC-4C85-A4DA-CFD29662B9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321E2-E687-4BCE-B810-018978621F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61118-1A14-4586-B84C-9C6EB65C37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5A5DA-057E-4B91-A0CA-3D1D58580B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F0A2D-7873-4B2E-AA78-CF051BD8F1F9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EE82C-394E-4C05-A833-B181BA90CF4E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27780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856E1-D26F-4F57-97C6-3DBB8506C80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E9AC8-CAB9-4394-BCCA-4A239C231DB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BFD78-449D-466D-9E7E-37314EC842D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knots(f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knots(f3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1715D-54A6-45D8-B268-FD668163111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D0596-B236-4FED-80F5-D993EAEC61B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79E67-DEDB-43C6-A9DA-40A22D4CDC6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4E3E1-F33F-444A-BA81-8BBE4922F85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1977A-2889-43CA-A2FC-7D0B5A3597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3C7E1-3C6D-4903-BF42-4A6B26FEF3A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1B814-43D9-4423-B867-D7289B0140A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75F6A-B09E-4562-A36D-7AD01FE9993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09EC1-B2D2-46E5-8A82-B01171F0E77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DEC02-94EB-4125-BBA1-C61E4091459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743AC-9D23-4176-B52C-B16A63A31B8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7-08-18T20:30:08Z</dcterms:modified>
  <cp:revision>162</cp:revision>
  <dc:subject/>
  <dc:title>minSpline: An R Package For Minimal Knot Splines</dc:title>
</cp:coreProperties>
</file>