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67BDA-FDA8-47F6-8667-418D855C28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1D0E5-1EDE-4B14-8C1B-D62219243A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CC127-B80B-40D7-8FAD-25BF0A4D74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0701B-16C5-46A4-B3FB-1A724E54EA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22E8B8-98BB-4624-B233-888D5E6C6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31EF91-BF2B-4170-81EA-A484FC76D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E63FA0-80C8-43C3-A07A-D2A552523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4AC602-C368-498D-BB4F-7BD13DA88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1ADAFC-6126-46B0-97E1-64A6CA252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05AF7E-6536-4FC9-9458-03D4C30BF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EA6535-1701-4262-BB37-87CF0BD6C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266A4-0284-4017-952E-7A5003EDAE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F97B17-7C04-45E5-AF9D-BFBE1E861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DDEF92-81FA-498C-AABB-6850C8C63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1C4C1F-551F-47AF-B901-5C261584E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D92293-6700-408F-96C0-F39F870A8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194B32-155A-40C8-92DD-B765E44F7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7598D-B606-4F29-ABB1-C3357E1DBD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FD0BB-4CDA-411E-A4B1-0D5ECDF342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52FDF-39C8-4B14-A888-AB206F92F2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6440A-48DE-47E3-8ED4-803DE0E051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8CCBA-D708-4734-B6F7-789EC1554A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737C4-C039-4BDE-A86A-D21D38B40F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FD995-4B66-4D92-9CD5-C16FBC6816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7A027-A23F-4107-8885-45001A34D58C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ABA86-F908-4A12-AEFF-6888A2CE7DA5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27780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emo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s examples with data discus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ignette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Provides more details on the spline fitting and algorith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Includes relevant sections from DierckxSpline (199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D3180-646B-45D4-A127-A36089AAB72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E0325-542F-4A8A-85CB-971047B9770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BE814-39A1-42F5-9505-2E0F8CD41FC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knots(f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knots(f3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FAD7E-D094-432C-9E47-FB08313F798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70BA0-5096-4415-9481-D96E6C061FE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17ABF-81FD-4199-92DC-D65441809AB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242E9-01B7-492D-8AA2-C3F2CD50382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for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92D8F-1407-43D2-807B-4BCDDEA534C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54F61-A510-485F-BC44-756C33AFF43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C55A0-B92B-4DED-9C8E-A8616FB021E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507A3-31E0-49DF-A278-FCFCDCBD34A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CDC78-8E78-44FC-9415-971F9DBBC93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68D4B-73E2-4204-97B5-E084B6B5828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89862-0AB7-4B47-BF08-4919A08B2B8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7-08-18T20:30:08Z</dcterms:modified>
  <cp:revision>162</cp:revision>
  <dc:subject/>
  <dc:title>minSpline: An R Package For Minimal Knot Splines</dc:title>
</cp:coreProperties>
</file>